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D8F4-7284-4CB1-892A-11C2D908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45E7-1BE7-467E-8170-C43D00B4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6302-9188-4EA3-B5C9-EBBD60D3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4F57-8DE9-40FC-90A6-3219F56C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0156-30B9-467C-B9DF-7CB9A2FA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8D8C-B0F1-4861-9CDD-DAC7BF1D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4664-C847-4734-AEA9-B1BC51ED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57A4-18CB-4217-A6D2-0A201D9C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341F-3C9C-448F-B4D4-74BC7A6A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475F-E90D-4AC6-8510-26E05F91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A54D-13A5-4FDB-BEE9-66CEC441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5C2-B754-42F0-825E-0E33215F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289B-C935-4FA4-A117-BCC72A19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C4A5-2D09-485B-A781-040D2761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E64A-A720-4360-A6DF-FC4C86EC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054B-D1F8-426B-A056-E43AE888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E622-FE8E-4F82-B327-9D42B2F8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AD953-B5CC-426A-9135-8E5CFFA7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45E74-7A95-4CBC-BE02-7C92CF8E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8807F-761C-493C-BCA1-3938E72C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8C324-4AA2-4245-932F-C9AC453E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155F6-5C38-4A90-9F81-B5B21D65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98B-9471-427A-92BD-C98C6F43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BDF39-9B6A-4E78-A3A4-314434CA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01E04-7E2C-410D-ACA2-AAF82011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BF593-62A3-43B9-AF06-58A3E139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F0123-BB69-4072-9F15-FD583619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E1EC7-190F-43E6-93CC-0FD28394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0DCBB-1BC9-428B-B0B9-6F9F5961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25900-395A-44EA-965E-F0FFD4A2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64322-F33A-46DA-888C-46E79B82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F2482-74BC-4061-A8E7-8E31DDC6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3E8EE-7290-4B5C-8BFE-EC9211CD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318A-9097-4BA7-8BC4-9CAC5058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27589-AE52-4353-A5C7-26740392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AF6F5-0F7E-4674-99FA-9BFDE927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CCE33-12D3-4C05-AD84-022EB650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1FB9D-1E10-44EE-A42C-0103265A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9FF07-CBAF-4227-B250-0818B12A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660F6-3292-4251-8F12-021AFBC1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354FD-F58C-478C-93D4-F58A128E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B6641-CA4A-46D3-BA35-229A39A1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0C032-0DE8-400F-A637-733BC948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CE2-47AB-47E6-966D-DAE4A918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3511-6FCC-4995-9E5B-F8E7848E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5090-1294-45C4-A821-22894C31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6E0-54D5-4D9C-8641-A680B716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7EF6-F355-4E69-9E74-142CC518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0B3B-C820-4D30-83A2-36DF56C0331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6205-6A9C-4A12-93C1-DFE0D32D90B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58E6-5407-4BFA-B0D5-B70A71CC02F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EFCE-0FF3-4A35-94CE-A10450C7CDC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reamworlds.ru/uploads/posts/2009-11/1259174879_1258_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rugosvet.r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549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8110440" cy="2486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езентацию выполнил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ченики 7 «в» класса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дько Василий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инин Иван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Бортник Марин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i-main-pic" descr="Картинка 23 из 723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28800" y="1714680"/>
            <a:ext cx="7358040" cy="421452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752400" y="71424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ель презен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анализировать орбиту и скорость ком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64296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МЕТА,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большое небесное тело, движущееся в межпланетном пространстве и обильно выделяющее газ при сближении с Солнцем. С кометами связаны разнообразные физические процессы, от сублимации (сухое испарение) льда до плазменных явлений. Кометы – это остатки формирования Солнечной системы, переходная ступень к межзвездному веществу. Наблюдение комет и даже их открытие нередко осуществляются любителями астрономии. Иногда кометы бывают столь яркими, что привлекают всеобщее внимание. В прошлом появление ярких комет вызывало у людей страх и служило источником вдохновения для художников и карикатурист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ижение ядра кометы полностью определяется притяжением Солнца. Форма орбиты кометы, как и любого другого тела в Солнечной системе, зависит от ее скорости и расстояния до Солнца. Средняя скорость тела обратно пропорциональна квадратному корню из его среднего расстояния до Солнца (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. Если скорость всегда перпендикулярна радиусу-вектору, направленному от Солнца к телу, то орбита круговая, а скорость называют круговой скоростью (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на расстоянии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Скорость ухода из гравитационного поля Солнца по параболической орбите (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 больше круговой скорости на этом расстоянии. Если скорость кометы меньше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то она движется вокруг Солнца по эллиптической орбите и никогда не покидает Солнечной системы. Но если скорость превосходит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то комета один раз проходит мимо Солнца и навсегда покидает его, двигаясь по гиперболической орбит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 рисунке показаны эллиптические орбиты двух комет, а также почти круговые орбиты планет и параболическая орбита. На расстоянии, которое отделяет Землю от Солнца, круговая скорость равна 29,8 км/с, а параболическая – 42,2 км/с. Вблизи Земли скорость кометы Энке равна 37,1 км/с, а скорость кометы Галлея – 41,6 км/с; именно поэтому комета Галлея уходит значительно дальше от Солнца, чем комета Энк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785840" y="714240"/>
            <a:ext cx="3900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ИПЫ ОРБИТ. Эллиптическая орбита кометы Галлея имеет наклонение 18° к плоскости земной орбиты. Орбита кометы Энке наклонена на 12°. Показана также параболическая орбит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Рисунок 4" descr="ТИПЫ ОРБИТ. Эллиптическая орбита кометы Галлея имеет наклонение 18° к плоскости земной орбиты. Орбита кометы Энке наклонена на 12°. Показана также параболическая орбита. "/>
          <p:cNvPicPr/>
          <p:nvPr/>
        </p:nvPicPr>
        <p:blipFill>
          <a:blip r:embed="rId1"/>
          <a:stretch/>
        </p:blipFill>
        <p:spPr>
          <a:xfrm>
            <a:off x="571680" y="428760"/>
            <a:ext cx="380988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285920" y="428400"/>
            <a:ext cx="7400880" cy="58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Ядро кометы галлея, схематическое изображение кометы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3" descr="ЯДРО КОМЕТЫ ГАЛЛЕЯ, схематическое изображение кометы. "/>
          <p:cNvPicPr/>
          <p:nvPr/>
        </p:nvPicPr>
        <p:blipFill>
          <a:blip r:embed="rId1"/>
          <a:stretch/>
        </p:blipFill>
        <p:spPr>
          <a:xfrm>
            <a:off x="2071800" y="785880"/>
            <a:ext cx="48765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Информационные ресурсы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krugosvet.r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http://astro.websib.r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2:14:45Z</dcterms:created>
  <dc:creator>Анжелика</dc:creator>
  <dc:description/>
  <dc:language>en-US</dc:language>
  <cp:lastModifiedBy>Анжелика</cp:lastModifiedBy>
  <dcterms:modified xsi:type="dcterms:W3CDTF">2010-05-15T12:52:43Z</dcterms:modified>
  <cp:revision>4</cp:revision>
  <dc:subject/>
  <dc:title>Орбита и скорость. </dc:title>
</cp:coreProperties>
</file>